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508-FFC8-4A05-9BBB-1E339CA4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BD0-C7AB-47E1-B04F-18AAEB89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2DE-4163-4BCE-91EA-9AF1F3A5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402-E5CB-46A8-AA96-C6FF8F53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4290-6CF3-4231-BFF1-2D794AA1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265E-AD51-42D8-9332-341092BB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D243-C26D-4F65-B825-6E0F29F7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9935-44D9-4440-9CC0-2AA1C129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F516-8DD6-4DF8-83CB-AD8D7013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31A8-1F01-4BCF-8E7B-264A80EF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2B6F-CE86-4DEF-9309-40D67E3D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2F9-3265-4AC7-A65C-0515A8A5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C0B3-ECDC-4DB4-90E9-F97BBF70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3154-1C92-420D-B40D-0A76B42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AD68-7963-4B73-816F-96A091C1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C0B4-F7D6-4EC1-B1E7-206CAB28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F545-E6C4-455E-AB2B-28C8672D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918-F7C7-4B3D-8C87-154A38B0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63D-F431-4219-95C0-CE3264F1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ABC-EF71-4DFF-8BEC-A3D46528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D7E-437A-45A4-9D2A-222C2B47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570-3F23-47E6-8ABA-818840C6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B6F-6697-4F25-912B-361BE221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703-A133-4E2D-90D6-E5AC8F46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C9A4-9368-4104-BD92-A2EE66C7B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7386-6BEA-4C47-891E-A662FA82A707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江苏省大学生电子设计竞赛社区使用指南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267080" y="4342320"/>
            <a:ext cx="41911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各高校使用指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429000" y="6019920"/>
            <a:ext cx="5715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竞赛网站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http://jsedu.eefocus.com/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目录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981080"/>
            <a:ext cx="854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用户的登录及信息修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学校竞赛信息的添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团队的创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其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用户的登录及信息修改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进入竞赛网站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ttp://jsedu.eefocus.com/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输入邮箱名和密码 点击登录，然后进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的空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在基本信息一项中请将昵称修改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本学校名称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以便我们管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请完善基本信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5219640"/>
            <a:ext cx="2952720" cy="163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3048120" y="5657760"/>
            <a:ext cx="6095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学校竞赛信息的添加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在我的空间左侧栏中有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管理中心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菜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请点击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学校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然后在右侧栏中点击添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所属竞赛中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选择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01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大学生电子竞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填写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学校 负责人 领队等信息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即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0" y="4896000"/>
            <a:ext cx="1952640" cy="196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1752480" y="5867280"/>
            <a:ext cx="1886040" cy="685800"/>
          </a:xfrm>
          <a:prstGeom prst="rect">
            <a:avLst/>
          </a:prstGeom>
          <a:ln w="0">
            <a:noFill/>
          </a:ln>
        </p:spPr>
      </p:pic>
      <p:sp>
        <p:nvSpPr>
          <p:cNvPr id="95" name="Oval 8"/>
          <p:cNvSpPr/>
          <p:nvPr/>
        </p:nvSpPr>
        <p:spPr>
          <a:xfrm>
            <a:off x="2590920" y="6172200"/>
            <a:ext cx="99036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3809880" y="4800600"/>
            <a:ext cx="3705480" cy="1685880"/>
          </a:xfrm>
          <a:prstGeom prst="rect">
            <a:avLst/>
          </a:prstGeom>
          <a:ln w="0">
            <a:noFill/>
          </a:ln>
        </p:spPr>
      </p:pic>
      <p:sp>
        <p:nvSpPr>
          <p:cNvPr id="97" name="Oval 10"/>
          <p:cNvSpPr/>
          <p:nvPr/>
        </p:nvSpPr>
        <p:spPr>
          <a:xfrm>
            <a:off x="5105520" y="5410080"/>
            <a:ext cx="99036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团队的创建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使用教师账号 在我的空间左侧栏中选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团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然后在右侧栏中选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创建团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填写相关信息 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选择竞赛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中选择当前进行的竞赛如：今年的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01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全国大学生电子竞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填写完信息后提交即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个教师账号可以为该学校创建多个参赛队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7343640" y="5181480"/>
            <a:ext cx="1800360" cy="1676520"/>
          </a:xfrm>
          <a:prstGeom prst="rect">
            <a:avLst/>
          </a:prstGeom>
          <a:ln w="0">
            <a:noFill/>
          </a:ln>
        </p:spPr>
      </p:pic>
      <p:sp>
        <p:nvSpPr>
          <p:cNvPr id="101" name="Oval 7"/>
          <p:cNvSpPr/>
          <p:nvPr/>
        </p:nvSpPr>
        <p:spPr>
          <a:xfrm>
            <a:off x="7391520" y="5943600"/>
            <a:ext cx="99036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团队信息的查看与修改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28600" y="1828800"/>
            <a:ext cx="854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团队信息的查看：在右侧栏中选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的团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即可查看所有团队的信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团队信息的修改：如下图右下角选择修改即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0" y="4381560"/>
            <a:ext cx="7077240" cy="2476440"/>
          </a:xfrm>
          <a:prstGeom prst="rect">
            <a:avLst/>
          </a:prstGeom>
          <a:ln w="0">
            <a:noFill/>
          </a:ln>
        </p:spPr>
      </p:pic>
      <p:sp>
        <p:nvSpPr>
          <p:cNvPr id="106" name="Oval 7"/>
          <p:cNvSpPr/>
          <p:nvPr/>
        </p:nvSpPr>
        <p:spPr>
          <a:xfrm>
            <a:off x="6172200" y="6172200"/>
            <a:ext cx="99072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其他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对于其他信息的填写，今后我们将在后续工作中加以说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BDZ</cp:lastModifiedBy>
  <dcterms:modified xsi:type="dcterms:W3CDTF">2013-06-06T14:49:08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